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E5DB-23C5-4700-99E4-28731D779A1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325E-2DBB-4556-8E47-D2F709B94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07C9-FCF2-487E-A263-3F453A64F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7B22-AA95-4A32-AA4D-7DBA739F9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63FF-49F6-4B19-A995-2BBABA2FD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5843-8653-4ACE-80F2-C89B061DB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AC0C-A87F-4411-8D55-641012684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C57-798A-4F1D-BD4D-E8D7DFC42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43DC-2737-4CAF-9193-524F739E5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781A-6FAE-43C0-803E-E5F3D9A78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D91-12AE-4449-B36E-74E954E2B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EB07-4F78-4D68-ADCC-FB1C4097A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D3E6-C55F-4765-8A86-A640D9D6D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8CBD-E245-4A3E-95FC-C8E056935D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B2CA-39FA-42E7-B173-013E724B6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85F6-DAA9-4D01-A6F1-2E773891E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AF92-976E-43CE-9BDF-8CC58B4A1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306B-3161-444D-9E57-14969945C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98ED-E2B3-4E8E-B469-A9A3CD1E8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E01-D136-4880-B95C-E89C49624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C8C-DA01-4D01-9641-DF7F95D1D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06E1-B169-4960-8694-1D5069122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A676-D64C-47F5-88A3-4CE5C07E0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A4BE-149A-422A-BFF7-0394CCE17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17D6-F2B8-40F4-91C4-3B449D04E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E5D2-B30A-431C-8953-8B445B5CF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F2F-9056-4EBF-BD25-5ECD33D2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47D-843B-4C15-8539-E82D0170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F04-4EBC-404E-9CB1-C585F7C7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657-3D3F-447E-A6B1-29D56564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ACDE-734E-4E3E-8E23-E4617FB9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0894-8EA3-4EA5-B460-7FFB1B5B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A421-7303-4BB4-ADA8-D987B4D7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CA92-D5F0-4B1F-932C-148B9A20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9A51-2E91-485A-8CBA-E192A326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8738-2B74-4022-B172-85A1CC01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FD0F-520C-4998-87A9-753987B0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149-0F46-4B48-BB9A-2A6807C2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201F-4049-41D7-9917-914A9F14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0DF8-C3B9-4410-92DE-242542CA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5C8-A146-48F1-9ACE-D122B61C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E1A-B1F0-43E6-BE2F-9AD343E9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EAEB-B368-4D4F-BAEA-5632E3B0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A2B-307D-45C4-B51A-9C531E4D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954-E7E0-433B-8F44-5335437E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BD2-D602-421A-91FA-0C42F6DF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F47-053B-429C-8CFF-11013CF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D72-5008-47DC-B631-EA662CA5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B35-15C3-4A1A-A9AC-187E1A1E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256-F090-4888-8B13-CB748259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1BAC-838D-42C0-AE54-D1874DAD73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B03A-EFFA-4D11-A3F9-83ACC42380B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799-9BF9-4DA7-903C-1077AF0217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06F6-768E-4D88-BE27-0829F3C4D79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1828800" y="20350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Science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1FC0-C620-4771-9796-D39319F7301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Dots For 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447920"/>
            <a:ext cx="8558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 will have very few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will come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ing cations (positive 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3352680"/>
            <a:ext cx="556272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5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098360" y="5867280"/>
            <a:ext cx="718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 has lost two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AA5D-22C4-4F9D-924E-DB8A0A99B06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ron Configurations for An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93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s gain electrons to attain noble gas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make anions (negative 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look at electron configuration it makes s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2, 8, 6 -    6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, 8, 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oble gas configuration (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7F4D-897A-435A-9EA0-E1E5B2C5BA11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Dots Fo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2760" y="1318680"/>
            <a:ext cx="8680320" cy="18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s will have many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ill gain electrons to fill outer sh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523880" y="3429000"/>
            <a:ext cx="205740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3206880" y="4121280"/>
            <a:ext cx="21564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1835280" y="3359160"/>
            <a:ext cx="21564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1911240" y="54165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2540160" y="3359160"/>
            <a:ext cx="21564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225440" y="415440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2"/>
          <p:cNvGrpSpPr/>
          <p:nvPr/>
        </p:nvGrpSpPr>
        <p:grpSpPr>
          <a:xfrm>
            <a:off x="3200400" y="4194000"/>
            <a:ext cx="1442880" cy="677880"/>
            <a:chOff x="3200400" y="4194000"/>
            <a:chExt cx="1442880" cy="677880"/>
          </a:xfrm>
        </p:grpSpPr>
        <p:sp>
          <p:nvSpPr>
            <p:cNvPr id="158" name="Arc 10"/>
            <p:cNvSpPr/>
            <p:nvPr/>
          </p:nvSpPr>
          <p:spPr>
            <a:xfrm>
              <a:off x="3348000" y="4194000"/>
              <a:ext cx="1295280" cy="6094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0"/>
                    <a:pt x="9654" y="14"/>
                    <a:pt x="21574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0"/>
                    <a:pt x="9654" y="14"/>
                    <a:pt x="21574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1"/>
            <p:cNvSpPr/>
            <p:nvPr/>
          </p:nvSpPr>
          <p:spPr>
            <a:xfrm>
              <a:off x="3200400" y="4655880"/>
              <a:ext cx="215640" cy="216000"/>
            </a:xfrm>
            <a:prstGeom prst="ellipse">
              <a:avLst/>
            </a:prstGeom>
            <a:solidFill>
              <a:srgbClr val="1f497d"/>
            </a:soli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5"/>
          <p:cNvGrpSpPr/>
          <p:nvPr/>
        </p:nvGrpSpPr>
        <p:grpSpPr>
          <a:xfrm>
            <a:off x="2585880" y="5384880"/>
            <a:ext cx="1671480" cy="1059840"/>
            <a:chOff x="2585880" y="5384880"/>
            <a:chExt cx="1671480" cy="1059840"/>
          </a:xfrm>
        </p:grpSpPr>
        <p:sp>
          <p:nvSpPr>
            <p:cNvPr id="161" name="Arc 13"/>
            <p:cNvSpPr/>
            <p:nvPr/>
          </p:nvSpPr>
          <p:spPr>
            <a:xfrm>
              <a:off x="2733480" y="5606640"/>
              <a:ext cx="1523880" cy="83808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4"/>
            <p:cNvSpPr/>
            <p:nvPr/>
          </p:nvSpPr>
          <p:spPr>
            <a:xfrm>
              <a:off x="2585880" y="5384880"/>
              <a:ext cx="215640" cy="215640"/>
            </a:xfrm>
            <a:prstGeom prst="ellipse">
              <a:avLst/>
            </a:prstGeom>
            <a:solidFill>
              <a:srgbClr val="1f497d"/>
            </a:soli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8"/>
          <p:cNvGrpSpPr/>
          <p:nvPr/>
        </p:nvGrpSpPr>
        <p:grpSpPr>
          <a:xfrm>
            <a:off x="1185840" y="4794120"/>
            <a:ext cx="1290600" cy="984240"/>
            <a:chOff x="1185840" y="4794120"/>
            <a:chExt cx="1290600" cy="984240"/>
          </a:xfrm>
        </p:grpSpPr>
        <p:sp>
          <p:nvSpPr>
            <p:cNvPr id="164" name="Arc 16"/>
            <p:cNvSpPr/>
            <p:nvPr/>
          </p:nvSpPr>
          <p:spPr>
            <a:xfrm>
              <a:off x="1333440" y="4940280"/>
              <a:ext cx="1143000" cy="83808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85840" y="4794120"/>
              <a:ext cx="215640" cy="216000"/>
            </a:xfrm>
            <a:prstGeom prst="ellipse">
              <a:avLst/>
            </a:prstGeom>
            <a:solidFill>
              <a:srgbClr val="1f497d"/>
            </a:solidFill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9"/>
          <p:cNvSpPr/>
          <p:nvPr/>
        </p:nvSpPr>
        <p:spPr>
          <a:xfrm>
            <a:off x="5637240" y="3505320"/>
            <a:ext cx="266868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50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2247-0F33-4193-91D3-4571C50F8EA6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ble Electron Configu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s react to achieve noble gas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ble gases have 8 valence electr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alled the octet r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514600" y="4572000"/>
            <a:ext cx="190512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Calibri"/>
              </a:rPr>
              <a:t>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2978280" y="450216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3359160" y="450216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2292480" y="488304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2292480" y="526428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968640" y="488304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3968640" y="526428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"/>
          <p:cNvSpPr/>
          <p:nvPr/>
        </p:nvSpPr>
        <p:spPr>
          <a:xfrm>
            <a:off x="2978280" y="595008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"/>
          <p:cNvSpPr/>
          <p:nvPr/>
        </p:nvSpPr>
        <p:spPr>
          <a:xfrm>
            <a:off x="3359160" y="5950080"/>
            <a:ext cx="139680" cy="13968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C9B8-48C8-4F16-81E1-01F2157E264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 - th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ls form positive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metals form negative 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ions and cations are held together by opposite char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ic compounds are called sa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nd is formed through the transfer of electrons. (From metals to nonmetals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s are transferred to achieve noble gas configu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ence electrons determine the formula. (Simplest ratio is called the formula unit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F2B9-BD2A-4DA9-9A68-13C7CD44951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8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447920" y="2743200"/>
            <a:ext cx="14475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505320" y="2743200"/>
            <a:ext cx="11430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3733920" y="25909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4191120" y="25909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3733920" y="38862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1"/>
          <p:cNvGrpSpPr/>
          <p:nvPr/>
        </p:nvGrpSpPr>
        <p:grpSpPr>
          <a:xfrm>
            <a:off x="4572000" y="3048120"/>
            <a:ext cx="152280" cy="609480"/>
            <a:chOff x="4572000" y="3048120"/>
            <a:chExt cx="152280" cy="609480"/>
          </a:xfrm>
        </p:grpSpPr>
        <p:sp>
          <p:nvSpPr>
            <p:cNvPr id="191" name="Oval 9"/>
            <p:cNvSpPr/>
            <p:nvPr/>
          </p:nvSpPr>
          <p:spPr>
            <a:xfrm>
              <a:off x="4572000" y="3505320"/>
              <a:ext cx="152280" cy="152280"/>
            </a:xfrm>
            <a:prstGeom prst="ellips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4572000" y="3048120"/>
              <a:ext cx="152280" cy="152280"/>
            </a:xfrm>
            <a:prstGeom prst="ellips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Oval 12"/>
          <p:cNvSpPr/>
          <p:nvPr/>
        </p:nvSpPr>
        <p:spPr>
          <a:xfrm>
            <a:off x="33526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1841400" y="2135160"/>
            <a:ext cx="1530360" cy="90000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38720" h="21600">
                <a:moveTo>
                  <a:pt x="0" y="8589"/>
                </a:moveTo>
                <a:cubicBezTo>
                  <a:pt x="4082" y="3180"/>
                  <a:pt x="10465" y="-1"/>
                  <a:pt x="17242" y="0"/>
                </a:cubicBezTo>
                <a:cubicBezTo>
                  <a:pt x="28284" y="0"/>
                  <a:pt x="37549" y="8329"/>
                  <a:pt x="38720" y="19309"/>
                </a:cubicBezTo>
              </a:path>
              <a:path stroke="0" w="38720" h="21600">
                <a:moveTo>
                  <a:pt x="0" y="8589"/>
                </a:moveTo>
                <a:cubicBezTo>
                  <a:pt x="4082" y="3180"/>
                  <a:pt x="10465" y="-1"/>
                  <a:pt x="17242" y="0"/>
                </a:cubicBezTo>
                <a:cubicBezTo>
                  <a:pt x="28284" y="0"/>
                  <a:pt x="37549" y="8329"/>
                  <a:pt x="38720" y="19309"/>
                </a:cubicBezTo>
                <a:lnTo>
                  <a:pt x="17242" y="21600"/>
                </a:lnTo>
                <a:lnTo>
                  <a:pt x="0" y="8589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"/>
          <p:cNvSpPr/>
          <p:nvPr/>
        </p:nvSpPr>
        <p:spPr>
          <a:xfrm>
            <a:off x="1719360" y="264780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6"/>
          <p:cNvSpPr/>
          <p:nvPr/>
        </p:nvSpPr>
        <p:spPr>
          <a:xfrm>
            <a:off x="1706400" y="2622600"/>
            <a:ext cx="179640" cy="2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6431-2FE8-444F-B8E2-B6A5FBAA6DC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1447920" y="1371600"/>
            <a:ext cx="21333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505320" y="1371600"/>
            <a:ext cx="175248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3733920" y="12193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4191120" y="12193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"/>
          <p:cNvSpPr/>
          <p:nvPr/>
        </p:nvSpPr>
        <p:spPr>
          <a:xfrm>
            <a:off x="3733920" y="2514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4191120" y="2514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4572000" y="1676520"/>
            <a:ext cx="152280" cy="609480"/>
            <a:chOff x="4572000" y="1676520"/>
            <a:chExt cx="152280" cy="609480"/>
          </a:xfrm>
        </p:grpSpPr>
        <p:sp>
          <p:nvSpPr>
            <p:cNvPr id="207" name="Oval 9"/>
            <p:cNvSpPr/>
            <p:nvPr/>
          </p:nvSpPr>
          <p:spPr>
            <a:xfrm>
              <a:off x="4572000" y="2133720"/>
              <a:ext cx="152280" cy="152280"/>
            </a:xfrm>
            <a:prstGeom prst="ellips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4572000" y="1676520"/>
              <a:ext cx="152280" cy="152280"/>
            </a:xfrm>
            <a:prstGeom prst="ellipse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Oval 12"/>
          <p:cNvSpPr/>
          <p:nvPr/>
        </p:nvSpPr>
        <p:spPr>
          <a:xfrm>
            <a:off x="3352680" y="2057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"/>
          <p:cNvSpPr/>
          <p:nvPr/>
        </p:nvSpPr>
        <p:spPr>
          <a:xfrm>
            <a:off x="3352680" y="16002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533520" y="28195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lost 1 electron to form 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gains 1 electron to form a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+ and – attract (force of attraction is called an ionic bond) holds the ions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tio is 1:1 so the formula is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6805-D745-4FBB-831B-37D41BB016E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9440" y="266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ing Elect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045800"/>
            <a:ext cx="83026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ing the formation of an ionic compound the total number of electrons lost (by metals in forming cations) must equal the total number of electrons gained (by non-metals in forming anio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 Group 2 loses 2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 Group 15 (5A) gains 3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eep totals equal a LCM of 6 is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x Ca = 3 x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x P   = 2 x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 lost (+6) = 6 gained (6-) Charges canc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0AE3-02B0-4081-BBD8-394E7CBA90F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he electrons must be accounted for, total lost = total gain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219320" y="320040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1600200" y="29718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2666880" y="35053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B261-5A5B-4A14-AD51-C24BFFA3FA9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219320" y="320040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1600200" y="29718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2666880" y="35053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2"/>
          <p:cNvSpPr/>
          <p:nvPr/>
        </p:nvSpPr>
        <p:spPr>
          <a:xfrm>
            <a:off x="2743200" y="2287440"/>
            <a:ext cx="2738520" cy="1219320"/>
          </a:xfrm>
          <a:custGeom>
            <a:avLst/>
            <a:gdLst>
              <a:gd name="textAreaLeft" fmla="*/ 0 w 2738520"/>
              <a:gd name="textAreaRight" fmla="*/ 2738880 w 27385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fill="none" w="43169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456" y="0"/>
                  <a:pt x="-22981" y="8981"/>
                  <a:pt x="-22367" y="20445"/>
                </a:cubicBezTo>
              </a:path>
              <a:path stroke="0" w="43169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456" y="0"/>
                  <a:pt x="-22981" y="8981"/>
                  <a:pt x="-22367" y="20445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3"/>
          <p:cNvSpPr/>
          <p:nvPr/>
        </p:nvSpPr>
        <p:spPr>
          <a:xfrm>
            <a:off x="1677960" y="1668600"/>
            <a:ext cx="4206960" cy="1317600"/>
          </a:xfrm>
          <a:custGeom>
            <a:avLst/>
            <a:gdLst>
              <a:gd name="textAreaLeft" fmla="*/ 0 w 4206960"/>
              <a:gd name="textAreaRight" fmla="*/ 4207320 w 4206960"/>
              <a:gd name="textAreaTop" fmla="*/ 0 h 1317600"/>
              <a:gd name="textAreaBottom" fmla="*/ 1317960 h 1317600"/>
            </a:gdLst>
            <a:ahLst/>
            <a:rect l="textAreaLeft" t="textAreaTop" r="textAreaRight" b="textAreaBottom"/>
            <a:pathLst>
              <a:path fill="none" w="43200" h="21971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723"/>
                  <a:pt x="-22338" y="21847"/>
                  <a:pt x="-22340" y="21970"/>
                </a:cubicBezTo>
              </a:path>
              <a:path stroke="0" w="43200" h="21971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723"/>
                  <a:pt x="-22338" y="21847"/>
                  <a:pt x="-22340" y="2197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B15F-DDE1-43A7-A910-724F5A4839AA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ing Track of Elect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1760" y="144756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lectrons responsible for the chemical properties of atoms are those in the outer energy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ence electrons – The electrons in the outer energy level (in valence shel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rnel (core) electrons -those in the energy levels below the valence shel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0C4B-7CA6-4E49-B8CA-D55B5B32419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D683-35B6-4C6D-BCC1-8ED498422BA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1295280" y="47242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44956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2743200" y="50292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rc 15"/>
          <p:cNvSpPr/>
          <p:nvPr/>
        </p:nvSpPr>
        <p:spPr>
          <a:xfrm>
            <a:off x="2971800" y="4400640"/>
            <a:ext cx="2819520" cy="7826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fill="none" w="21600" h="24650">
                <a:moveTo>
                  <a:pt x="21383" y="0"/>
                </a:moveTo>
                <a:cubicBezTo>
                  <a:pt x="21527" y="1010"/>
                  <a:pt x="21600" y="2029"/>
                  <a:pt x="21600" y="3050"/>
                </a:cubicBezTo>
                <a:cubicBezTo>
                  <a:pt x="21600" y="14979"/>
                  <a:pt x="11929" y="24649"/>
                  <a:pt x="0" y="24650"/>
                </a:cubicBezTo>
              </a:path>
              <a:path stroke="0" w="21600" h="24650">
                <a:moveTo>
                  <a:pt x="21383" y="0"/>
                </a:moveTo>
                <a:cubicBezTo>
                  <a:pt x="21527" y="1010"/>
                  <a:pt x="21600" y="2029"/>
                  <a:pt x="21600" y="3050"/>
                </a:cubicBezTo>
                <a:cubicBezTo>
                  <a:pt x="21600" y="14979"/>
                  <a:pt x="11929" y="24649"/>
                  <a:pt x="0" y="24650"/>
                </a:cubicBezTo>
                <a:lnTo>
                  <a:pt x="0" y="3050"/>
                </a:lnTo>
                <a:lnTo>
                  <a:pt x="2138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A8A3-6819-4445-8D21-9AA81B5D7A1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295280" y="47242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676520" y="44956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152E-95BF-42B0-A699-5974261404F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"/>
          <p:cNvSpPr/>
          <p:nvPr/>
        </p:nvSpPr>
        <p:spPr>
          <a:xfrm>
            <a:off x="1295280" y="47242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1676520" y="44956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5486400" y="487692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rc 21"/>
          <p:cNvSpPr/>
          <p:nvPr/>
        </p:nvSpPr>
        <p:spPr>
          <a:xfrm>
            <a:off x="533520" y="4573440"/>
            <a:ext cx="5032080" cy="1598760"/>
          </a:xfrm>
          <a:custGeom>
            <a:avLst/>
            <a:gdLst>
              <a:gd name="textAreaLeft" fmla="*/ 0 w 5032080"/>
              <a:gd name="textAreaRight" fmla="*/ 5032440 w 5032080"/>
              <a:gd name="textAreaTop" fmla="*/ 0 h 1598760"/>
              <a:gd name="textAreaBottom" fmla="*/ 1599120 h 1598760"/>
            </a:gdLst>
            <a:ahLst/>
            <a:rect l="textAreaLeft" t="textAreaTop" r="textAreaRight" b="textAreaBottom"/>
            <a:pathLst>
              <a:path fill="none" w="33992" h="38858">
                <a:moveTo>
                  <a:pt x="33991" y="34949"/>
                </a:moveTo>
                <a:cubicBezTo>
                  <a:pt x="30360" y="37493"/>
                  <a:pt x="26033" y="38857"/>
                  <a:pt x="21600" y="38858"/>
                </a:cubicBezTo>
                <a:cubicBezTo>
                  <a:pt x="9670" y="38858"/>
                  <a:pt x="0" y="29187"/>
                  <a:pt x="0" y="17258"/>
                </a:cubicBezTo>
                <a:cubicBezTo>
                  <a:pt x="-1" y="10472"/>
                  <a:pt x="3189" y="4080"/>
                  <a:pt x="8610" y="-1"/>
                </a:cubicBezTo>
              </a:path>
              <a:path stroke="0" w="33992" h="38858">
                <a:moveTo>
                  <a:pt x="33991" y="34949"/>
                </a:moveTo>
                <a:cubicBezTo>
                  <a:pt x="30360" y="37493"/>
                  <a:pt x="26033" y="38857"/>
                  <a:pt x="21600" y="38858"/>
                </a:cubicBezTo>
                <a:cubicBezTo>
                  <a:pt x="9670" y="38858"/>
                  <a:pt x="0" y="29187"/>
                  <a:pt x="0" y="17258"/>
                </a:cubicBezTo>
                <a:cubicBezTo>
                  <a:pt x="-1" y="10472"/>
                  <a:pt x="3189" y="4080"/>
                  <a:pt x="8610" y="-1"/>
                </a:cubicBezTo>
                <a:lnTo>
                  <a:pt x="21600" y="17258"/>
                </a:lnTo>
                <a:lnTo>
                  <a:pt x="33991" y="34949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0595-41FA-4002-9F56-4B6E03EC1D1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1295280" y="4724280"/>
            <a:ext cx="27432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3"/>
          <p:cNvSpPr/>
          <p:nvPr/>
        </p:nvSpPr>
        <p:spPr>
          <a:xfrm>
            <a:off x="556272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5486400" y="487692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C8CE-2AF0-439B-9148-6E93A0FCCA7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1295280" y="4724280"/>
            <a:ext cx="27432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556272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5486400" y="487692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1295280" y="19810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>
            <a:off x="1676520" y="17524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4A99-7719-4B02-8239-CFE2862E4D5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5638680" y="320040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1295280" y="4724280"/>
            <a:ext cx="27432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556272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5486400" y="4876920"/>
            <a:ext cx="1523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1"/>
          <p:cNvSpPr/>
          <p:nvPr/>
        </p:nvSpPr>
        <p:spPr>
          <a:xfrm>
            <a:off x="1295280" y="1981080"/>
            <a:ext cx="15242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2"/>
          <p:cNvSpPr/>
          <p:nvPr/>
        </p:nvSpPr>
        <p:spPr>
          <a:xfrm>
            <a:off x="1676520" y="17524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23"/>
          <p:cNvSpPr/>
          <p:nvPr/>
        </p:nvSpPr>
        <p:spPr>
          <a:xfrm>
            <a:off x="2743200" y="2286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rc 24"/>
          <p:cNvSpPr/>
          <p:nvPr/>
        </p:nvSpPr>
        <p:spPr>
          <a:xfrm>
            <a:off x="1752480" y="1830240"/>
            <a:ext cx="4038840" cy="2971800"/>
          </a:xfrm>
          <a:custGeom>
            <a:avLst/>
            <a:gdLst>
              <a:gd name="textAreaLeft" fmla="*/ 0 w 4038840"/>
              <a:gd name="textAreaRight" fmla="*/ 4039200 w 403884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25"/>
          <p:cNvSpPr/>
          <p:nvPr/>
        </p:nvSpPr>
        <p:spPr>
          <a:xfrm>
            <a:off x="2895480" y="2363760"/>
            <a:ext cx="2438640" cy="3200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A82C-20A8-49D5-B037-57EFF6517D2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219320" y="3200400"/>
            <a:ext cx="23619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4"/>
          <p:cNvSpPr/>
          <p:nvPr/>
        </p:nvSpPr>
        <p:spPr>
          <a:xfrm>
            <a:off x="5715000" y="30481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5410080" y="34290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5638680" y="3200400"/>
            <a:ext cx="15242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7"/>
          <p:cNvSpPr/>
          <p:nvPr/>
        </p:nvSpPr>
        <p:spPr>
          <a:xfrm>
            <a:off x="6095880" y="30481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8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9"/>
          <p:cNvSpPr/>
          <p:nvPr/>
        </p:nvSpPr>
        <p:spPr>
          <a:xfrm>
            <a:off x="6477120" y="38098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0"/>
          <p:cNvSpPr/>
          <p:nvPr/>
        </p:nvSpPr>
        <p:spPr>
          <a:xfrm>
            <a:off x="6095880" y="42670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1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1295280" y="4724280"/>
            <a:ext cx="27432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3"/>
          <p:cNvSpPr/>
          <p:nvPr/>
        </p:nvSpPr>
        <p:spPr>
          <a:xfrm>
            <a:off x="556272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4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5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5486400" y="4876920"/>
            <a:ext cx="190512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60000">
                <a:solidFill>
                  <a:srgbClr val="000000"/>
                </a:solidFill>
                <a:latin typeface="Calibri"/>
              </a:rPr>
              <a:t>3-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7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8"/>
          <p:cNvSpPr/>
          <p:nvPr/>
        </p:nvSpPr>
        <p:spPr>
          <a:xfrm>
            <a:off x="6324480" y="510552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0"/>
          <p:cNvSpPr/>
          <p:nvPr/>
        </p:nvSpPr>
        <p:spPr>
          <a:xfrm>
            <a:off x="5943600" y="59436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1"/>
          <p:cNvSpPr/>
          <p:nvPr/>
        </p:nvSpPr>
        <p:spPr>
          <a:xfrm>
            <a:off x="1295280" y="1981080"/>
            <a:ext cx="236232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2"/>
          <p:cNvSpPr/>
          <p:nvPr/>
        </p:nvSpPr>
        <p:spPr>
          <a:xfrm>
            <a:off x="5562720" y="4724280"/>
            <a:ext cx="152280" cy="15264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3"/>
          <p:cNvSpPr/>
          <p:nvPr/>
        </p:nvSpPr>
        <p:spPr>
          <a:xfrm>
            <a:off x="5257800" y="5486400"/>
            <a:ext cx="152280" cy="152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1640-60D3-4C53-8B4A-4C77E9ED81D3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685800" y="60948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276720" y="2971800"/>
            <a:ext cx="2743200" cy="13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7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75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7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3200400" y="2590920"/>
            <a:ext cx="3124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rmula Un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685800" y="191304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The Ca to P ratio is 3:2 s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2971800" y="41911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x 2+ = 6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3 – = 6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+  +      6–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#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st = #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ain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2BE-B3F6-44E4-A830-C9CC5D49098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IUPAC_Periodic_Table.png"/>
          <p:cNvPicPr/>
          <p:nvPr/>
        </p:nvPicPr>
        <p:blipFill>
          <a:blip r:embed="rId1"/>
          <a:stretch/>
        </p:blipFill>
        <p:spPr>
          <a:xfrm>
            <a:off x="0" y="127944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380880" y="9907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1     +2                                                                               +3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   -3    -2    -1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1600200" y="19051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st Transition Metals do not have form cations of one fixed charge, they tend to have variable char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20B2-6C44-4203-8B6A-68E22BDC1346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eping Track of Elect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4960" y="1447560"/>
            <a:ext cx="8483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the same colum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the same number of outer electrons (valence electr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ly found by looking up the group number on the periodic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2 - Be, Mg, Ca, .- 2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st digit in the representative group number gives the number of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FAA2-F460-4691-8411-DC7B11FA9EE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erties of Ionic compound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melting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electricity when dissolved in water or in molten stat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 not conduct electricity in solid state because the electrons are not able to m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ic substances tend to be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lectroly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a substance that dissolves in water to produce a solution that will conduct electri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lid are a crystal latt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5" descr="b1"/>
          <p:cNvPicPr/>
          <p:nvPr/>
        </p:nvPicPr>
        <p:blipFill>
          <a:blip r:embed="rId1"/>
          <a:stretch/>
        </p:blipFill>
        <p:spPr>
          <a:xfrm>
            <a:off x="4521240" y="3429000"/>
            <a:ext cx="3403440" cy="3352680"/>
          </a:xfrm>
          <a:prstGeom prst="rect">
            <a:avLst/>
          </a:prstGeom>
          <a:ln w="0">
            <a:noFill/>
          </a:ln>
        </p:spPr>
      </p:pic>
      <p:sp>
        <p:nvSpPr>
          <p:cNvPr id="4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191E-36F8-4007-AE70-302B7E4B4402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common binary ionic compound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Cl – table s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Cl – pot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perspir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road s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5" descr="MCj03052670000[1]"/>
          <p:cNvPicPr/>
          <p:nvPr/>
        </p:nvPicPr>
        <p:blipFill>
          <a:blip r:embed="rId1"/>
          <a:stretch/>
        </p:blipFill>
        <p:spPr>
          <a:xfrm>
            <a:off x="5486400" y="3063960"/>
            <a:ext cx="3200400" cy="2754360"/>
          </a:xfrm>
          <a:prstGeom prst="rect">
            <a:avLst/>
          </a:prstGeom>
          <a:ln w="0">
            <a:noFill/>
          </a:ln>
        </p:spPr>
      </p:pic>
      <p:sp>
        <p:nvSpPr>
          <p:cNvPr id="4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09AB-2E7D-4AC5-907A-88ED6121319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fixed binary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ic compounds are formed between metals and non-metals.  When naming them, we name the Cation (metal) first, then we name the anion (non-metal) last- changing the last part of the name of the element to “id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chlorine – chlo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xygen – ox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trogen - nit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D700-47BF-4F5E-B50F-6D250D7060C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2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alibri"/>
              </a:rPr>
              <a:t>Formula Writing and Naming:</a:t>
            </a:r>
            <a:br>
              <a:rPr sz="4400"/>
            </a:br>
            <a:r>
              <a:rPr b="0" lang="en-US" sz="4400" spc="-1" strike="noStrike">
                <a:solidFill>
                  <a:srgbClr val="33ccff"/>
                </a:solidFill>
                <a:latin typeface="Calibri"/>
              </a:rPr>
              <a:t>Fixed Binary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4" descr="kcllewis"/>
          <p:cNvPicPr/>
          <p:nvPr/>
        </p:nvPicPr>
        <p:blipFill>
          <a:blip r:embed="rId1"/>
          <a:stretch/>
        </p:blipFill>
        <p:spPr>
          <a:xfrm>
            <a:off x="1981080" y="2514600"/>
            <a:ext cx="7162920" cy="3286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64628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rmula: write the cation first and anion l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me: Name the cation first (use the element nam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me the anion but change the ending to “ide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, </a:t>
            </a:r>
            <a:r>
              <a:rPr b="0" lang="en-US" sz="2800" spc="-1" strike="noStrike">
                <a:solidFill>
                  <a:srgbClr val="33ccff"/>
                </a:solidFill>
                <a:latin typeface="Calibri"/>
              </a:rPr>
              <a:t>Formula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KC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33ccff"/>
                </a:solidFill>
                <a:latin typeface="Calibri"/>
              </a:rPr>
              <a:t>Name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otassium chlo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12C-0756-4EE5-88C2-0649F4053EE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Calibri"/>
              </a:rPr>
              <a:t>Example- Show the formation of the compound formed between Na and 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ula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: sodium ox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5" descr="dotmove"/>
          <p:cNvPicPr/>
          <p:nvPr/>
        </p:nvPicPr>
        <p:blipFill>
          <a:blip r:embed="rId1"/>
          <a:stretch/>
        </p:blipFill>
        <p:spPr>
          <a:xfrm>
            <a:off x="228600" y="2133720"/>
            <a:ext cx="2971800" cy="2544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9" descr="nao"/>
          <p:cNvPicPr/>
          <p:nvPr/>
        </p:nvPicPr>
        <p:blipFill>
          <a:blip r:embed="rId2"/>
          <a:stretch/>
        </p:blipFill>
        <p:spPr>
          <a:xfrm>
            <a:off x="5181480" y="1981080"/>
            <a:ext cx="3581640" cy="267336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10"/>
          <p:cNvSpPr/>
          <p:nvPr/>
        </p:nvSpPr>
        <p:spPr>
          <a:xfrm>
            <a:off x="3352680" y="3048120"/>
            <a:ext cx="1676520" cy="9144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CAF4-0800-4757-A78B-ACDCA0E0C19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Show the formation of CaCl</a:t>
            </a:r>
            <a:r>
              <a:rPr b="1" lang="en-CA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: calcium 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5" descr="cacl"/>
          <p:cNvPicPr/>
          <p:nvPr/>
        </p:nvPicPr>
        <p:blipFill>
          <a:blip r:embed="rId1"/>
          <a:stretch/>
        </p:blipFill>
        <p:spPr>
          <a:xfrm>
            <a:off x="533520" y="2209680"/>
            <a:ext cx="8076960" cy="216072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408B-C258-4565-803F-27F90D65FF5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Show the formation of the following fixed binary ionic compounds using electron-dot structures (Lewis structures). Also write the names of the compou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a)  K</a:t>
            </a:r>
            <a:r>
              <a:rPr b="1" lang="en-C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b)  Na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c)  Al</a:t>
            </a:r>
            <a:r>
              <a:rPr b="1" lang="en-CA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CA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dict the formula and name the compounds formed when the following elements rea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a)  K and 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b)  Li</a:t>
            </a:r>
            <a:r>
              <a:rPr b="1" lang="en-CA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and 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c)  Mg and 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240B-C974-44A5-B20D-413A3A4D6EEC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Write the formula and the name for the ionic compound formed from each of the following 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)  Ca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nd Cl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)  Al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nd N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)  Be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  and O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d)  Be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nd N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e)  K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and S</a:t>
            </a:r>
            <a:r>
              <a:rPr b="0" lang="en-CA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40EA-A332-4C45-81B9-0C2EAD7559B6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04920" y="457200"/>
            <a:ext cx="533376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: Name the following binary ionic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M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Z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C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) Li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) Cs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) NaB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) B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) HC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2286000" y="1447920"/>
            <a:ext cx="4952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um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nc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h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ium 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4C4A-AC63-4F0F-8F6E-B6BCEC91655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4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4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4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those ones in the “middle”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, so they form positive ions (c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n form different ions (variable charge) eg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5" descr="[Image:Periodic Table with Highlighted Elements]"/>
          <p:cNvPicPr/>
          <p:nvPr/>
        </p:nvPicPr>
        <p:blipFill>
          <a:blip r:embed="rId1"/>
          <a:stretch/>
        </p:blipFill>
        <p:spPr>
          <a:xfrm>
            <a:off x="914400" y="2944800"/>
            <a:ext cx="7162920" cy="3913200"/>
          </a:xfrm>
          <a:prstGeom prst="rect">
            <a:avLst/>
          </a:prstGeom>
          <a:ln w="0">
            <a:noFill/>
          </a:ln>
        </p:spPr>
      </p:pic>
      <p:sp>
        <p:nvSpPr>
          <p:cNvPr id="4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91A6-6608-45FD-B0A5-1F48CC3FE45E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080" y="609480"/>
            <a:ext cx="8526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on Dot diagrams (Lewis Structu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548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of keeping track of valence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wri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symb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one dot for each valence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pair up until they hav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629400" y="2590920"/>
            <a:ext cx="144792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6788160" y="24447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7550280" y="2444760"/>
            <a:ext cx="21564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254640" y="32068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6254640" y="3816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6864480" y="4578480"/>
            <a:ext cx="21564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7626240" y="45784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8159760" y="32068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2"/>
          <p:cNvSpPr/>
          <p:nvPr/>
        </p:nvSpPr>
        <p:spPr>
          <a:xfrm>
            <a:off x="8159760" y="3816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2650-BADF-49CF-A4AE-FFB94957DE25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5" descr="ions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5643720"/>
          </a:xfrm>
          <a:prstGeom prst="rect">
            <a:avLst/>
          </a:prstGeom>
          <a:ln w="0">
            <a:noFill/>
          </a:ln>
        </p:spPr>
      </p:pic>
      <p:sp>
        <p:nvSpPr>
          <p:cNvPr id="4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1BEA-DD3F-4242-A93C-3DE5F8C029E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variable binary ionic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ic compounds formed between metals with variable charge and non-metals.  When naming them, we name the metal first and state the charge in Roman numerals in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acke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, then we name the non-metal last- changing the last part of the name of the element to “id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an numer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– 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 – IV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 – VI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– X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– I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– V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 – VI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– II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 – V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 – I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01E2-E4C4-4803-881D-F980A30C729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onic compounds with transition metal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on(III) chlo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pper(I) sulf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Oval 4"/>
          <p:cNvSpPr/>
          <p:nvPr/>
        </p:nvSpPr>
        <p:spPr>
          <a:xfrm>
            <a:off x="3429000" y="21337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7"/>
          <p:cNvSpPr/>
          <p:nvPr/>
        </p:nvSpPr>
        <p:spPr>
          <a:xfrm>
            <a:off x="3276720" y="21337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8"/>
          <p:cNvSpPr/>
          <p:nvPr/>
        </p:nvSpPr>
        <p:spPr>
          <a:xfrm>
            <a:off x="312408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9"/>
          <p:cNvSpPr/>
          <p:nvPr/>
        </p:nvSpPr>
        <p:spPr>
          <a:xfrm>
            <a:off x="3124080" y="24382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0"/>
          <p:cNvSpPr/>
          <p:nvPr/>
        </p:nvSpPr>
        <p:spPr>
          <a:xfrm>
            <a:off x="3276720" y="25909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1"/>
          <p:cNvSpPr/>
          <p:nvPr/>
        </p:nvSpPr>
        <p:spPr>
          <a:xfrm>
            <a:off x="3429000" y="25909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3"/>
          <p:cNvSpPr/>
          <p:nvPr/>
        </p:nvSpPr>
        <p:spPr>
          <a:xfrm>
            <a:off x="4114800" y="30481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"/>
          <p:cNvSpPr/>
          <p:nvPr/>
        </p:nvSpPr>
        <p:spPr>
          <a:xfrm>
            <a:off x="4114800" y="32004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"/>
          <p:cNvSpPr/>
          <p:nvPr/>
        </p:nvSpPr>
        <p:spPr>
          <a:xfrm>
            <a:off x="4191120" y="33526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6"/>
          <p:cNvSpPr/>
          <p:nvPr/>
        </p:nvSpPr>
        <p:spPr>
          <a:xfrm>
            <a:off x="4343400" y="33526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7"/>
          <p:cNvSpPr/>
          <p:nvPr/>
        </p:nvSpPr>
        <p:spPr>
          <a:xfrm>
            <a:off x="4572000" y="30481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8"/>
          <p:cNvSpPr/>
          <p:nvPr/>
        </p:nvSpPr>
        <p:spPr>
          <a:xfrm>
            <a:off x="4572000" y="32004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9"/>
          <p:cNvSpPr/>
          <p:nvPr/>
        </p:nvSpPr>
        <p:spPr>
          <a:xfrm>
            <a:off x="4267080" y="28954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20"/>
          <p:cNvSpPr/>
          <p:nvPr/>
        </p:nvSpPr>
        <p:spPr>
          <a:xfrm>
            <a:off x="5105520" y="21337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1"/>
          <p:cNvSpPr/>
          <p:nvPr/>
        </p:nvSpPr>
        <p:spPr>
          <a:xfrm>
            <a:off x="5257800" y="21337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2"/>
          <p:cNvSpPr/>
          <p:nvPr/>
        </p:nvSpPr>
        <p:spPr>
          <a:xfrm>
            <a:off x="541008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23"/>
          <p:cNvSpPr/>
          <p:nvPr/>
        </p:nvSpPr>
        <p:spPr>
          <a:xfrm>
            <a:off x="5410080" y="24382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24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25"/>
          <p:cNvSpPr/>
          <p:nvPr/>
        </p:nvSpPr>
        <p:spPr>
          <a:xfrm>
            <a:off x="5105520" y="251460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26"/>
          <p:cNvSpPr/>
          <p:nvPr/>
        </p:nvSpPr>
        <p:spPr>
          <a:xfrm>
            <a:off x="4952880" y="2362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27"/>
          <p:cNvSpPr/>
          <p:nvPr/>
        </p:nvSpPr>
        <p:spPr>
          <a:xfrm>
            <a:off x="457200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28"/>
          <p:cNvSpPr/>
          <p:nvPr/>
        </p:nvSpPr>
        <p:spPr>
          <a:xfrm>
            <a:off x="4343400" y="25146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29"/>
          <p:cNvSpPr/>
          <p:nvPr/>
        </p:nvSpPr>
        <p:spPr>
          <a:xfrm>
            <a:off x="403848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30"/>
          <p:cNvSpPr/>
          <p:nvPr/>
        </p:nvSpPr>
        <p:spPr>
          <a:xfrm>
            <a:off x="4191120" y="44197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1"/>
          <p:cNvSpPr/>
          <p:nvPr/>
        </p:nvSpPr>
        <p:spPr>
          <a:xfrm>
            <a:off x="4343400" y="44197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2"/>
          <p:cNvSpPr/>
          <p:nvPr/>
        </p:nvSpPr>
        <p:spPr>
          <a:xfrm>
            <a:off x="4191120" y="48769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3"/>
          <p:cNvSpPr/>
          <p:nvPr/>
        </p:nvSpPr>
        <p:spPr>
          <a:xfrm>
            <a:off x="4343400" y="48769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34"/>
          <p:cNvSpPr/>
          <p:nvPr/>
        </p:nvSpPr>
        <p:spPr>
          <a:xfrm>
            <a:off x="4495680" y="4648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4038480" y="4648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5029200" y="46483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40"/>
          <p:cNvSpPr/>
          <p:nvPr/>
        </p:nvSpPr>
        <p:spPr>
          <a:xfrm rot="5025000">
            <a:off x="3580920" y="1676160"/>
            <a:ext cx="495360" cy="495360"/>
          </a:xfrm>
          <a:custGeom>
            <a:avLst/>
            <a:gdLst>
              <a:gd name="textAreaLeft" fmla="*/ 66240 w 495360"/>
              <a:gd name="textAreaRight" fmla="*/ 429120 w 495360"/>
              <a:gd name="textAreaTop" fmla="*/ 86400 h 495360"/>
              <a:gd name="textAreaBottom" fmla="*/ 359280 h 4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1"/>
          <p:cNvSpPr/>
          <p:nvPr/>
        </p:nvSpPr>
        <p:spPr>
          <a:xfrm>
            <a:off x="4572000" y="1752480"/>
            <a:ext cx="533520" cy="381240"/>
          </a:xfrm>
          <a:custGeom>
            <a:avLst/>
            <a:gdLst>
              <a:gd name="textAreaLeft" fmla="*/ 93240 w 533520"/>
              <a:gd name="textAreaRight" fmla="*/ 387000 w 5335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2"/>
          <p:cNvSpPr/>
          <p:nvPr/>
        </p:nvSpPr>
        <p:spPr>
          <a:xfrm rot="5140200">
            <a:off x="4495680" y="2590560"/>
            <a:ext cx="533520" cy="380880"/>
          </a:xfrm>
          <a:custGeom>
            <a:avLst/>
            <a:gdLst>
              <a:gd name="textAreaLeft" fmla="*/ 93240 w 533520"/>
              <a:gd name="textAreaRight" fmla="*/ 387000 w 5335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45"/>
          <p:cNvSpPr/>
          <p:nvPr/>
        </p:nvSpPr>
        <p:spPr>
          <a:xfrm>
            <a:off x="3733920" y="47242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6"/>
          <p:cNvSpPr/>
          <p:nvPr/>
        </p:nvSpPr>
        <p:spPr>
          <a:xfrm rot="5025000">
            <a:off x="3580920" y="4038120"/>
            <a:ext cx="495360" cy="495360"/>
          </a:xfrm>
          <a:custGeom>
            <a:avLst/>
            <a:gdLst>
              <a:gd name="textAreaLeft" fmla="*/ 66240 w 495360"/>
              <a:gd name="textAreaRight" fmla="*/ 429120 w 495360"/>
              <a:gd name="textAreaTop" fmla="*/ 86400 h 495360"/>
              <a:gd name="textAreaBottom" fmla="*/ 359280 h 4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47"/>
          <p:cNvSpPr/>
          <p:nvPr/>
        </p:nvSpPr>
        <p:spPr>
          <a:xfrm>
            <a:off x="4572000" y="4114800"/>
            <a:ext cx="533520" cy="380880"/>
          </a:xfrm>
          <a:custGeom>
            <a:avLst/>
            <a:gdLst>
              <a:gd name="textAreaLeft" fmla="*/ 93240 w 533520"/>
              <a:gd name="textAreaRight" fmla="*/ 387000 w 5335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Straight Arrow Connector 42"/>
          <p:cNvCxnSpPr/>
          <p:nvPr/>
        </p:nvCxnSpPr>
        <p:spPr>
          <a:xfrm>
            <a:off x="6399720" y="1981080"/>
            <a:ext cx="305640" cy="144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44"/>
          <p:cNvCxnSpPr/>
          <p:nvPr/>
        </p:nvCxnSpPr>
        <p:spPr>
          <a:xfrm flipH="1">
            <a:off x="7009560" y="4800240"/>
            <a:ext cx="381960" cy="76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Slide Number Placeholder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7510-81B4-4729-B7E5-67E113464DE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formulas for the following compou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pper(I) ox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(IV) brom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on(III) sulf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ckel(III) fluo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ganese(IV) sulf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names of the following compounds.(Use the anion to calculate the charge of the cation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153C-136E-42E0-BC15-D1EC15EC1E26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yatomic ions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s made up of 2 or more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5" descr="polyions"/>
          <p:cNvPicPr/>
          <p:nvPr/>
        </p:nvPicPr>
        <p:blipFill>
          <a:blip r:embed="rId1"/>
          <a:stretch/>
        </p:blipFill>
        <p:spPr>
          <a:xfrm>
            <a:off x="1066680" y="1447920"/>
            <a:ext cx="7239240" cy="5181480"/>
          </a:xfrm>
          <a:prstGeom prst="rect">
            <a:avLst/>
          </a:prstGeom>
          <a:ln w="0">
            <a:noFill/>
          </a:ln>
        </p:spPr>
      </p:pic>
      <p:sp>
        <p:nvSpPr>
          <p:cNvPr id="4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EAC6-A1DB-4E53-938F-EDDFD0CF65F6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onic compounds with polyatomic 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      and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1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-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Charges can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onium sulf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6"/>
          <p:cNvSpPr/>
          <p:nvPr/>
        </p:nvSpPr>
        <p:spPr>
          <a:xfrm>
            <a:off x="3124080" y="22860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7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8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9"/>
          <p:cNvSpPr/>
          <p:nvPr/>
        </p:nvSpPr>
        <p:spPr>
          <a:xfrm>
            <a:off x="3352680" y="274320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10"/>
          <p:cNvSpPr/>
          <p:nvPr/>
        </p:nvSpPr>
        <p:spPr>
          <a:xfrm>
            <a:off x="3048120" y="2438280"/>
            <a:ext cx="7596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1"/>
          <p:cNvSpPr/>
          <p:nvPr/>
        </p:nvSpPr>
        <p:spPr>
          <a:xfrm>
            <a:off x="3429000" y="2590920"/>
            <a:ext cx="7632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2"/>
          <p:cNvSpPr/>
          <p:nvPr/>
        </p:nvSpPr>
        <p:spPr>
          <a:xfrm>
            <a:off x="3048120" y="2590920"/>
            <a:ext cx="7596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0"/>
          <p:cNvSpPr/>
          <p:nvPr/>
        </p:nvSpPr>
        <p:spPr>
          <a:xfrm>
            <a:off x="3429000" y="2438280"/>
            <a:ext cx="7632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C5C8-57BE-4D03-9EE1-E94C60C6F08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formula for the following ionic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&amp; 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&amp; 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&amp; 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B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&amp; 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) L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&amp;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62E1-F87B-49EC-A385-8ADCBCAEBCCA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ming Ionic Compounds with polyatomic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cation: 1) fixed name th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variable element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ed by (roman numer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name the positive polyatom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nly for 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then the a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negative polyatomic 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the name for the ionic compounds from the previous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71E6-3B54-4B70-A9CC-C3F330CB0BC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09480"/>
            <a:ext cx="77724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e Electron Dot diagram for Nit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20574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gen has 5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we write the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248520" y="2819520"/>
            <a:ext cx="175248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5800" y="3724200"/>
            <a:ext cx="5029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add 1 electron at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time to each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6483240" y="2673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7854840" y="34354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6788160" y="4959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"/>
          <p:cNvSpPr/>
          <p:nvPr/>
        </p:nvSpPr>
        <p:spPr>
          <a:xfrm>
            <a:off x="6026040" y="419724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859680" y="4770360"/>
            <a:ext cx="5623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 they are forced to pair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1"/>
          <p:cNvSpPr/>
          <p:nvPr/>
        </p:nvSpPr>
        <p:spPr>
          <a:xfrm>
            <a:off x="7169040" y="267336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5FE9-FB04-4074-AD6A-63705B2E069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rite the electron dot diagram f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C03D-1751-435C-8F35-538897D83E3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ron Configurations for 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 lose electrons to attain noble gas configuration (Born lose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make cations (positive 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look at electron configuration it makes s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 2, 8, 1 - 1 valence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2, 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oble gas configuration (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C429-3B48-4E48-ADBD-A35D82301ACB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Dots For 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47920"/>
            <a:ext cx="8559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 will have very few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066680" y="3352680"/>
            <a:ext cx="266724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"/>
          <p:cNvSpPr/>
          <p:nvPr/>
        </p:nvSpPr>
        <p:spPr>
          <a:xfrm>
            <a:off x="1682640" y="328284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816360" y="41212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533520" y="5830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ium has two valence electrons (Group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0731-592B-467D-BEA0-393EF3226B19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Dots For 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9240" y="14479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s will have very few valence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will come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066680" y="3352680"/>
            <a:ext cx="266724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1682640" y="3282840"/>
            <a:ext cx="216000" cy="21600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3816360" y="4121280"/>
            <a:ext cx="216000" cy="215640"/>
          </a:xfrm>
          <a:prstGeom prst="ellipse">
            <a:avLst/>
          </a:prstGeom>
          <a:solidFill>
            <a:srgbClr val="1f497d"/>
          </a:solidFill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rc 7"/>
          <p:cNvSpPr/>
          <p:nvPr/>
        </p:nvSpPr>
        <p:spPr>
          <a:xfrm>
            <a:off x="1830240" y="2668680"/>
            <a:ext cx="838440" cy="685800"/>
          </a:xfrm>
          <a:custGeom>
            <a:avLst/>
            <a:gdLst>
              <a:gd name="textAreaLeft" fmla="*/ 0 w 838440"/>
              <a:gd name="textAreaRight" fmla="*/ 838800 w 8384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86"/>
                  <a:pt x="9645" y="22"/>
                  <a:pt x="21559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86"/>
                  <a:pt x="9645" y="22"/>
                  <a:pt x="21559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2556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rc 8"/>
          <p:cNvSpPr/>
          <p:nvPr/>
        </p:nvSpPr>
        <p:spPr>
          <a:xfrm>
            <a:off x="3963960" y="3506760"/>
            <a:ext cx="838080" cy="685800"/>
          </a:xfrm>
          <a:custGeom>
            <a:avLst/>
            <a:gdLst>
              <a:gd name="textAreaLeft" fmla="*/ 0 w 838080"/>
              <a:gd name="textAreaRight" fmla="*/ 838440 w 8380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86"/>
                  <a:pt x="9645" y="22"/>
                  <a:pt x="21559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86"/>
                  <a:pt x="9645" y="22"/>
                  <a:pt x="21559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2556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C847-A19A-472C-BF25-F0CB80646FEF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6:06:49Z</dcterms:created>
  <dc:creator>ladmin</dc:creator>
  <dc:description/>
  <dc:language>en-US</dc:language>
  <cp:lastModifiedBy>Pacific West Staff 1</cp:lastModifiedBy>
  <dcterms:modified xsi:type="dcterms:W3CDTF">2012-01-16T18:27:59Z</dcterms:modified>
  <cp:revision>66</cp:revision>
  <dc:subject/>
  <dc:title>Slide 1</dc:title>
</cp:coreProperties>
</file>